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gif" ContentType="image/gif"/>
  <Override PartName="/ppt/media/image8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71093-5D1E-4605-8CB5-87FD7F29F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erican Typewriter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Typewriter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Typewrite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1A3ED-A2D9-4F9C-8AA0-784DFF9F1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erican Typewriter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Typewriter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Typewriter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Typewriter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Typewriter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86D33-29DB-41A5-A1AB-7C2EDE37D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erican Typewriter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Typewriter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Typewriter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Typewriter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Typewriter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Typewriter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Typewriter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A5213-A030-4ACA-8ECB-BA55C9FFC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4A1D5-7E43-4D66-A8EE-532F374A6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erican Typewriter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Typewrite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D37CE-58BF-4D7F-9A80-C46F14997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erican Typewriter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Typewrite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04F36-C80D-4FFF-9395-435881503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erican Typewriter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Typewriter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Typewrite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20C2E-F17A-4001-BA06-9917BB35D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erican Typewrite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316F8-5E5E-4FD2-88D9-94FE1DEBB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Typewrite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59423-8CE2-4732-BB5A-1C380A31D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erican Typewriter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Typewriter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Typewriter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Typewrite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4B9A9-B458-4AAF-8A13-F8A99BC5E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erican Typewriter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Typewrite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324BC-9814-446E-A4B8-77DF78636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erican Typewriter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Typewriter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Typewriter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Typewrite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A9AA3-4B9D-4DC9-94A0-C4BB6B05E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erican Typewriter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Typewriter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Typewriter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Typewrite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47E4E-0927-4789-A9CD-A42614CDB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erican Typewriter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Typewriter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Typewrite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7A24E-E82F-459F-A8E9-3D9659842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erican Typewriter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Typewriter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Typewriter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Typewriter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Typewriter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6D40B-41E1-4D55-B719-3BD86CC09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erican Typewriter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Typewriter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Typewriter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Typewriter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Typewriter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Typewriter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Typewriter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67CEF-236C-4667-9B20-1E2F53EAD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erican Typewriter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Typewrite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2D4B0-4B56-48CD-9379-CED27C7A2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erican Typewriter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Typewriter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Typewrite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2477F-1EEF-41EE-8995-0B0CC8021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erican Typewrite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30BF7-42F6-4400-8C1B-942F45519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Typewrite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DC0C4-8469-49E3-889B-7B17948A4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erican Typewriter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Typewriter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Typewriter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Typewrite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5E0C3-22DE-4241-B63D-CC757AA3E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erican Typewriter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Typewriter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Typewriter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Typewrite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533E8-61AC-44B8-8FCF-B07131715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erican Typewriter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Typewriter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Typewriter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Typewrite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92D7F-69A7-47C6-8A86-B4F53F3F7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merican Typewriter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merican Typewriter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merican Typewri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merican Typewriter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merican Typewriter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merican Typewrit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merican Typewriter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merican Typewriter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merican Typewri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merican Typewriter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merican Typewriter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merican Typewrit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merican Typewriter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merican Typewriter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merican Typewriter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merican Typewriter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merican Typewriter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merican Typewriter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merican Typewriter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merican Typewriter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merican Typewriter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merican Typewriter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merican Typewriter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merican Typewriter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merican Typewriter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merican Typewriter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9629A-D065-41BD-B659-4830CBE12500}" type="slidenum">
              <a:rPr b="0" lang="en-US" sz="1400" spc="-1" strike="noStrike">
                <a:solidFill>
                  <a:srgbClr val="000000"/>
                </a:solidFill>
                <a:latin typeface="American Typewrite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merican Typewriter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merican Typewriter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merican Typewriter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merican Typewri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merican Typewriter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merican Typewriter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merican Typewrit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merican Typewriter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merican Typewriter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merican Typewri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merican Typewriter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merican Typewriter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merican Typewrit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merican Typewriter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merican Typewriter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merican Typewriter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merican Typewriter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merican Typewriter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merican Typewriter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merican Typewriter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merican Typewriter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merican Typewriter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merican Typewriter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merican Typewriter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merican Typewriter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merican Typewriter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merican Typewriter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E2A8F-C13E-4239-9FAD-0BDDD6B68982}" type="slidenum">
              <a:rPr b="0" lang="en-US" sz="1400" spc="-1" strike="noStrike">
                <a:solidFill>
                  <a:srgbClr val="000000"/>
                </a:solidFill>
                <a:latin typeface="American Typewrite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merican Typewriter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11" descr="olive2"/>
          <p:cNvPicPr/>
          <p:nvPr/>
        </p:nvPicPr>
        <p:blipFill>
          <a:blip r:embed="rId1"/>
          <a:stretch/>
        </p:blipFill>
        <p:spPr>
          <a:xfrm>
            <a:off x="2514600" y="4038480"/>
            <a:ext cx="2857680" cy="2143080"/>
          </a:xfrm>
          <a:prstGeom prst="rect">
            <a:avLst/>
          </a:prstGeom>
          <a:ln w="0">
            <a:noFill/>
          </a:ln>
        </p:spPr>
      </p:pic>
      <p:sp>
        <p:nvSpPr>
          <p:cNvPr id="83" name="Text Box 4"/>
          <p:cNvSpPr/>
          <p:nvPr/>
        </p:nvSpPr>
        <p:spPr>
          <a:xfrm>
            <a:off x="0" y="0"/>
            <a:ext cx="5334120" cy="1477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merican Typewriter"/>
              </a:rPr>
              <a:t>Agenda 3-5 &amp; 8-12</a:t>
            </a:r>
            <a:endParaRPr b="0" lang="en-US" sz="1800" spc="-1" strike="noStrike">
              <a:solidFill>
                <a:srgbClr val="000000"/>
              </a:solidFill>
              <a:latin typeface="American Typewriter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merican Typewriter"/>
              </a:rPr>
              <a:t>*Greek Pottery Scene due this Friday. </a:t>
            </a:r>
            <a:endParaRPr b="0" lang="en-US" sz="1800" spc="-1" strike="noStrike">
              <a:solidFill>
                <a:srgbClr val="000000"/>
              </a:solidFill>
              <a:latin typeface="American Typewriter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American Typewriter"/>
              </a:rPr>
              <a:t>****Get out Gold Book worksheet with chart****</a:t>
            </a:r>
            <a:endParaRPr b="0" lang="en-US" sz="1800" spc="-1" strike="noStrike">
              <a:solidFill>
                <a:srgbClr val="000000"/>
              </a:solidFill>
              <a:latin typeface="American Typewriter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0" y="1143000"/>
            <a:ext cx="5257800" cy="25628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merican Typewriter"/>
              </a:rPr>
              <a:t>Focus 3-5 &amp; 8-12</a:t>
            </a:r>
            <a:endParaRPr b="0" lang="en-US" sz="1800" spc="-1" strike="noStrike">
              <a:solidFill>
                <a:srgbClr val="000000"/>
              </a:solidFill>
              <a:latin typeface="American Typewriter"/>
            </a:endParaRPr>
          </a:p>
          <a:p>
            <a:pPr marL="457200" indent="-457200">
              <a:buClr>
                <a:srgbClr val="000000"/>
              </a:buClr>
              <a:buFont typeface="American Typewrite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merican Typewriter"/>
              </a:rPr>
              <a:t>What was Greece’s major export?</a:t>
            </a:r>
            <a:endParaRPr b="0" lang="en-US" sz="1800" spc="-1" strike="noStrike">
              <a:solidFill>
                <a:srgbClr val="000000"/>
              </a:solidFill>
              <a:latin typeface="American Typewriter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merican Typewriter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merican Typewriter"/>
              </a:rPr>
              <a:t>2. Because much of Greece is mountainous with poor soil which resulted in insufficient crops, supplies had to be_________ from other places around the Mediterranean Sea.</a:t>
            </a:r>
            <a:endParaRPr b="0" lang="en-US" sz="1800" spc="-1" strike="noStrike">
              <a:solidFill>
                <a:srgbClr val="000000"/>
              </a:solidFill>
              <a:latin typeface="American Typewriter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merican Typewriter"/>
            </a:endParaRPr>
          </a:p>
        </p:txBody>
      </p:sp>
      <p:pic>
        <p:nvPicPr>
          <p:cNvPr id="85" name="Picture 7" descr="olive8"/>
          <p:cNvPicPr/>
          <p:nvPr/>
        </p:nvPicPr>
        <p:blipFill>
          <a:blip r:embed="rId2"/>
          <a:srcRect l="2671" t="0" r="1335" b="0"/>
          <a:stretch/>
        </p:blipFill>
        <p:spPr>
          <a:xfrm>
            <a:off x="5925960" y="149400"/>
            <a:ext cx="2743200" cy="31431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9" descr="olive4"/>
          <p:cNvPicPr/>
          <p:nvPr/>
        </p:nvPicPr>
        <p:blipFill>
          <a:blip r:embed="rId3"/>
          <a:srcRect l="0" t="6138" r="0" b="0"/>
          <a:stretch/>
        </p:blipFill>
        <p:spPr>
          <a:xfrm>
            <a:off x="0" y="3429000"/>
            <a:ext cx="2803680" cy="34290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5" descr="Image:Olivetree 1500yrs.jpg"/>
          <p:cNvPicPr/>
          <p:nvPr/>
        </p:nvPicPr>
        <p:blipFill>
          <a:blip r:embed="rId4"/>
          <a:srcRect l="5999" t="0" r="24003" b="14003"/>
          <a:stretch/>
        </p:blipFill>
        <p:spPr>
          <a:xfrm>
            <a:off x="5268960" y="3276720"/>
            <a:ext cx="3875040" cy="3581280"/>
          </a:xfrm>
          <a:prstGeom prst="rect">
            <a:avLst/>
          </a:prstGeom>
          <a:ln w="0">
            <a:noFill/>
          </a:ln>
        </p:spPr>
      </p:pic>
      <p:sp>
        <p:nvSpPr>
          <p:cNvPr id="88" name="Text Box 16"/>
          <p:cNvSpPr/>
          <p:nvPr/>
        </p:nvSpPr>
        <p:spPr>
          <a:xfrm>
            <a:off x="4191120" y="144792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merican Typewriter"/>
              </a:rPr>
              <a:t>Olive oil</a:t>
            </a:r>
            <a:endParaRPr b="0" lang="en-US" sz="1600" spc="-1" strike="noStrike">
              <a:solidFill>
                <a:srgbClr val="000000"/>
              </a:solidFill>
              <a:latin typeface="American Typewriter"/>
            </a:endParaRPr>
          </a:p>
        </p:txBody>
      </p:sp>
      <p:sp>
        <p:nvSpPr>
          <p:cNvPr id="89" name="Text Box 17"/>
          <p:cNvSpPr/>
          <p:nvPr/>
        </p:nvSpPr>
        <p:spPr>
          <a:xfrm>
            <a:off x="838080" y="2743200"/>
            <a:ext cx="129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merican Typewriter"/>
              </a:rPr>
              <a:t>imported</a:t>
            </a:r>
            <a:endParaRPr b="0" lang="en-US" sz="1600" spc="-1" strike="noStrike">
              <a:solidFill>
                <a:srgbClr val="000000"/>
              </a:solidFill>
              <a:latin typeface="American Typewriter"/>
            </a:endParaRPr>
          </a:p>
        </p:txBody>
      </p:sp>
      <p:sp>
        <p:nvSpPr>
          <p:cNvPr id="90" name="Text Box 18"/>
          <p:cNvSpPr/>
          <p:nvPr/>
        </p:nvSpPr>
        <p:spPr>
          <a:xfrm>
            <a:off x="2819520" y="6248520"/>
            <a:ext cx="2438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merican Typewriter"/>
              </a:rPr>
              <a:t>An olive tree claimed to be around 1,500 yrs old</a:t>
            </a:r>
            <a:endParaRPr b="0" lang="en-US" sz="1600" spc="-1" strike="noStrike">
              <a:solidFill>
                <a:srgbClr val="000000"/>
              </a:solidFill>
              <a:latin typeface="American Typewriter"/>
            </a:endParaRPr>
          </a:p>
        </p:txBody>
      </p:sp>
      <p:sp>
        <p:nvSpPr>
          <p:cNvPr id="91" name="Line 19"/>
          <p:cNvSpPr/>
          <p:nvPr/>
        </p:nvSpPr>
        <p:spPr>
          <a:xfrm flipV="1">
            <a:off x="5105520" y="5867280"/>
            <a:ext cx="761760" cy="6098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merican Typewrite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4" descr="KISH_04_77"/>
          <p:cNvPicPr/>
          <p:nvPr/>
        </p:nvPicPr>
        <p:blipFill>
          <a:blip r:embed="rId1"/>
          <a:stretch/>
        </p:blipFill>
        <p:spPr>
          <a:xfrm>
            <a:off x="0" y="0"/>
            <a:ext cx="9144000" cy="556272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5"/>
          <p:cNvSpPr/>
          <p:nvPr/>
        </p:nvSpPr>
        <p:spPr>
          <a:xfrm>
            <a:off x="848880" y="5943600"/>
            <a:ext cx="6683760" cy="459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be0e3"/>
                </a:solidFill>
                <a:latin typeface="Times New Roman"/>
              </a:rPr>
              <a:t>http://www.eduplace.com/kids/socsci/ca/books/bkf3/imaps/AC_11_351_grtrade/AC_11_351_grtrade.html</a:t>
            </a:r>
            <a:endParaRPr b="0" lang="en-US" sz="1200" spc="-1" strike="noStrike">
              <a:solidFill>
                <a:srgbClr val="000000"/>
              </a:solidFill>
              <a:latin typeface="American Typewrite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merican Typewrite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merican Typewriter"/>
              </a:rPr>
              <a:t>Alexander the Great</a:t>
            </a:r>
            <a:endParaRPr b="0" lang="en-US" sz="4400" spc="-1" strike="noStrike">
              <a:solidFill>
                <a:srgbClr val="000000"/>
              </a:solidFill>
              <a:latin typeface="American Typewriter"/>
            </a:endParaRPr>
          </a:p>
        </p:txBody>
      </p:sp>
      <p:pic>
        <p:nvPicPr>
          <p:cNvPr id="95" name="Picture 19" descr="alexander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5" descr="alexander"/>
          <p:cNvPicPr/>
          <p:nvPr/>
        </p:nvPicPr>
        <p:blipFill>
          <a:blip r:embed="rId1"/>
          <a:stretch/>
        </p:blipFill>
        <p:spPr>
          <a:xfrm>
            <a:off x="304920" y="1371600"/>
            <a:ext cx="8561160" cy="40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7" descr="ma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5" descr="LIGHTHOUSE%20OF%20ALEXANDRI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5" descr="LIGHTHOUSE%20OF%20ALEXANDRIA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08T13:01:06Z</dcterms:created>
  <dc:creator>MARIE Katzenbach</dc:creator>
  <dc:description/>
  <dc:language>en-US</dc:language>
  <cp:lastModifiedBy>poweruser</cp:lastModifiedBy>
  <dcterms:modified xsi:type="dcterms:W3CDTF">2012-03-09T22:21:02Z</dcterms:modified>
  <cp:revision>154</cp:revision>
  <dc:subject/>
  <dc:title>Jason and the Argonauts</dc:title>
</cp:coreProperties>
</file>